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0.png" ContentType="image/png"/>
  <Override PartName="/ppt/media/image6.jpeg" ContentType="image/jpeg"/>
  <Override PartName="/ppt/media/image27.jpeg" ContentType="image/jpeg"/>
  <Override PartName="/ppt/media/image9.png" ContentType="image/png"/>
  <Override PartName="/ppt/media/image8.wmf" ContentType="image/x-wmf"/>
  <Override PartName="/ppt/media/image13.png" ContentType="image/png"/>
  <Override PartName="/ppt/media/image11.jpeg" ContentType="image/jpeg"/>
  <Override PartName="/ppt/media/image5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</p:sldIdLst>
  <p:sldSz cx="9144000" cy="6858000"/>
  <p:notesSz cx="6710363" cy="9842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A1C1-C47D-4AAC-91F7-DFCEF62F8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DD15-9F50-430D-922B-F1705B65C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E1B8-2ABC-4153-ADCF-0E93D7A77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F817-6A6A-4D6D-8D72-7C0C2C578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EE30D-CF7B-4D7F-964C-E7508794B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207C4-B707-4132-BA64-BC21405D0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E45EA-8434-4910-8FBD-D6B77C1F7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39443-3B34-4697-8930-1AE64DF35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CAC43-80C9-4339-BD5C-458216291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1A785-5A9F-49D8-AAE6-EBF60F4A5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4A8D5-F2D4-4520-8779-28433B30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8D3A-FC70-479A-850E-A852D5998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0AD7E-E70F-40A6-8B35-E7A176EDC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D485F-36DB-43DA-8C96-79165209C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71512-FEBD-43B6-86FD-6672D3281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4FA02-C116-44AA-B910-5382E8ADD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A0EF0-163A-48F0-B1A4-D4D5F4846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6F8FC-A949-4DB9-BA4E-D3696B48F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6BECA-22AF-499C-9D3F-68AE5F76A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6BA7A-E4CA-4E6B-AF84-8A9EE321C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BC6F9-B714-43C1-B9B4-D4AC99FC4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6D869-1B06-4A0A-8674-9A90A5FD1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193D-F8C4-42BC-A9DC-2171FB66B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682AA-AE78-4CE4-BBF3-F2F3C3731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196C9-BB66-424D-9600-E1E08AA90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C453F-65AD-495D-8C95-B88E398D2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C94A4-5285-4611-B4E4-46DCBA65E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1953F-497D-4930-9E0C-BE4906FC4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E767D-D6B6-4169-AF41-70B47BCF6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C0678-89AD-4004-8BC0-69CCCD942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CCDC6-ABF7-4282-AB81-3BA7C639A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EC486-3A5A-41A4-962F-E4D746068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4ECDB-8EEF-4A17-A56F-5E3D1BF12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8FA5-9D19-4466-93AF-7FCCD560E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6DCB2-A594-40A6-B7B6-4072D66AD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1F08D-117A-430E-8807-CAA4E4AE4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F5170-3266-48D6-85C1-9F3853A85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54FDF-6D02-4F86-963E-EC2D5007F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E200B-D6DA-4FF4-BA52-A3749CE06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879EC7-D804-433A-9B2A-BC4B68EA2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B792A-38F4-4748-9F9B-774F93732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9003A4-3490-4B2E-BEDF-6E84D1CDD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D27BB-39C2-4C41-B8FD-7BE2DD4E8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10C19D-AB9E-40D2-9634-C9FE84665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D5C9-7AFF-454D-88A6-A7DE9D9FC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35D14A-EB67-4ECD-8D27-C527FC8FC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E010EF-3056-4AA4-9F30-891C6DDE3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1E837B-147F-4580-82AF-35D677D85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7EC32F-8C60-48CE-9E4A-B33146F8F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0FF6A5-2E5E-434A-93D7-A22D0420B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454CFE-7FA5-456B-BDB5-D9CFFDBF8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5A89C2-640F-45D0-85F9-768E6D2AD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B3EE6F-D3C0-4645-8454-439DB2E7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7B42BD-5292-40D2-BF2B-2177E65C9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6CDD23-F448-4ED8-A615-CED31A294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5B89-2D41-44D3-AA32-0EA5733F4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2774D8-8563-4CC8-8902-D0025869C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E37CA8-F78F-4EC0-BFBB-FCF9E13A8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42EF8F-CCE9-4CA4-A9C1-1D61F5D6D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C0053E-2CFB-4488-BCE0-50F97E2DF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9D1682-46D4-47A3-BB0D-CA160F714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AAEE70-6698-42E9-8EBC-D18DB01CC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B4EA9B-FB7F-4992-B723-5D3CA943A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66E2BA-9A4D-4822-A9BC-93CA8D1D4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544D31-E771-4739-8B8B-F457C790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B7734B-C15C-4D0A-B3E6-DC0DB7A34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D47D-4F20-4E46-9E44-713BDC12A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1FC948-63EE-443E-B882-31CE8442F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EDF687-BFCE-46AF-81E3-AD21E2481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8D105E-EE04-4FC2-B742-02EAD2945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4ADF55-E394-4807-9403-D7494707C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BDA71C-9AB9-46C7-ADB3-E57DAAAE4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1D373E-F6C7-4709-9135-5A042DC71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7C1ACE-90EA-46FF-ACBA-DA19D198D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5B2633-FF07-4DAD-AF78-FAA0C5DDB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0F6625-D991-4416-8B5E-8279DCDAA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56C0E1-C3EE-47FB-AC1B-65A0067A9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D1DC-A01F-44B4-A514-5CE3B9F2C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DBDF25-B512-438B-A870-C8FACAA40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51F566-C0E6-4907-AF35-F93BD07F5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D58582-5E67-4B9A-896D-0061E5E67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D94808-ECC9-4BC6-8F6A-A66C2ABE1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0D5692-9DAF-48EC-B856-5682D8343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AF585E-F6B3-4017-BFAA-70DA37B7A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E978D1-373D-49A3-8983-74A383E90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86085A-5419-41C7-B478-9FDB87D0E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7A8D65-0875-4681-9109-83243837C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C0FD5E-A5F1-47A0-A7B1-B989FA491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91CE-3E11-4B92-A0CE-C17CFA619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A98BB6-9526-4E15-8FBB-56148C81B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227994-04E4-447B-B644-2CA6A0C2B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84925E-BF05-480C-8FA8-3C147FF3C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ABF84A-A706-4292-A73C-139D4C500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0B96FD-8881-446E-AA2E-3FF43545B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3E25C6-2F9F-4EBD-A78E-45417EF0A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60F58B-A0D8-42A9-B954-1D501F009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olný tvar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olný tvar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Pravoúhlý trojúhelní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Pravoúhlý trojúhelník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Přímá spojovací čára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62BE5-A3E2-4F8B-9864-816B7CC5D92A}" type="slidenum"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ravoúhlý trojúhelní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Skupina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olný tvar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olný tvar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olný tvar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Volný tvar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Přímá spojovací čára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E5378-73C5-43EB-B4A2-4FB27BC6C82D}" type="slidenum"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olný tvar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olný tvar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Pravoúhlý trojúhelní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Pravoúhlý trojúhelní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Přímá spojovací čára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Dvojitá šipka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Dvojitá šipka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A53B1-1790-4E60-AFAB-003F62E8D6F6}" type="slidenum"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olný tvar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olný tvar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Pravoúhlý trojúhelní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Pravoúhlý trojúhelní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Přímá spojovací čára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F558D-7CF5-44F9-9973-D5E8E5470A70}" type="slidenum"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E0FC4-C5CC-442E-96C8-06C25E72AA0E}" type="slidenum"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olný tvar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olný tvar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Pravoúhlý trojúhelní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Pravoúhlý trojúhelní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Přímá spojovací čára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27A4D-C62A-418E-80FD-DE25D6EF2323}" type="slidenum"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42E88-DD86-4DCB-8E2C-7BED6F1A5BAC}" type="slidenum"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olný tvar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olný tvar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Pravoúhlý trojúhelník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Pravoúhlý trojúhelník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Přímá spojovací čára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Dvojitá šipka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Dvojitá šipka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C1D7F-9768-41E0-8C71-A5E7A18F8260}" type="slidenum"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mailto:" TargetMode="External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trukturalni-fondy.cz/iop/5-2" TargetMode="Externa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571680" y="4361040"/>
            <a:ext cx="7772400" cy="568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464646"/>
                </a:solidFill>
                <a:latin typeface="Lucida Sans Unicode"/>
              </a:rPr>
              <a:t>25. února  201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428760" y="1500120"/>
          <a:ext cx="8001000" cy="1584360"/>
        </p:xfrm>
        <a:graphic>
          <a:graphicData uri="http://schemas.openxmlformats.org/drawingml/2006/table">
            <a:tbl>
              <a:tblPr/>
              <a:tblGrid>
                <a:gridCol w="8001000"/>
              </a:tblGrid>
              <a:tr h="1798920">
                <a:tc>
                  <a:txBody>
                    <a:bodyPr lIns="114480" rIns="114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40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Prezentac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2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IPRM pro zónu Březohorského sídliště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72" name="Picture 2" descr=""/>
          <p:cNvPicPr/>
          <p:nvPr/>
        </p:nvPicPr>
        <p:blipFill>
          <a:blip r:embed="rId1"/>
          <a:stretch/>
        </p:blipFill>
        <p:spPr>
          <a:xfrm>
            <a:off x="7572240" y="428760"/>
            <a:ext cx="466920" cy="54288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1" descr=""/>
          <p:cNvPicPr/>
          <p:nvPr/>
        </p:nvPicPr>
        <p:blipFill>
          <a:blip r:embed="rId2"/>
          <a:stretch/>
        </p:blipFill>
        <p:spPr>
          <a:xfrm>
            <a:off x="1143000" y="428760"/>
            <a:ext cx="5781600" cy="523800"/>
          </a:xfrm>
          <a:prstGeom prst="rect">
            <a:avLst/>
          </a:prstGeom>
          <a:ln w="0">
            <a:noFill/>
          </a:ln>
        </p:spPr>
      </p:pic>
      <p:sp>
        <p:nvSpPr>
          <p:cNvPr id="374" name="Rectangle 3"/>
          <p:cNvSpPr/>
          <p:nvPr/>
        </p:nvSpPr>
        <p:spPr>
          <a:xfrm>
            <a:off x="4481640" y="-4582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4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MSOImageWebPart_WebPartWPQ2" descr="Obrázek webu"/>
          <p:cNvPicPr/>
          <p:nvPr/>
        </p:nvPicPr>
        <p:blipFill>
          <a:blip r:embed="rId3"/>
          <a:stretch/>
        </p:blipFill>
        <p:spPr>
          <a:xfrm>
            <a:off x="571680" y="5857920"/>
            <a:ext cx="191448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Výzva č. 3 pro aktivitu 5.2. b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Lucida Sans Unicode"/>
                <a:ea typeface="Times New Roman"/>
              </a:rPr>
              <a:t>IPRM pro zónu Březohorského sídliště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Lucida Sans Unicode"/>
              </a:rPr>
              <a:t>Vyhlášení výzvy: </a:t>
            </a:r>
            <a:r>
              <a:rPr b="0" lang="cs-CZ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Lucida Sans Unicode"/>
              </a:rPr>
              <a:t>10. 3. 2010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Lucida Sans Unicode"/>
              </a:rPr>
              <a:t>Zahájení příjmu žádostí: </a:t>
            </a:r>
            <a:r>
              <a:rPr b="0" lang="cs-CZ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Lucida Sans Unicode"/>
              </a:rPr>
              <a:t>15. 3. 2010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Lucida Sans Unicode"/>
              </a:rPr>
              <a:t>Ukončení příjmu žádostí: </a:t>
            </a:r>
            <a:r>
              <a:rPr b="0" lang="cs-CZ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Lucida Sans Unicode"/>
              </a:rPr>
              <a:t>14. 5. 2010 do 14,30 hodi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Lucida Sans Unicode"/>
              </a:rPr>
              <a:t>Zahájení projektu: </a:t>
            </a:r>
            <a:r>
              <a:rPr b="0" lang="cs-CZ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Lucida Sans Unicode"/>
              </a:rPr>
              <a:t>od data uvedeného na potvrzení CRR ČR o způsobilosti projektu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Lucida Sans Unicode"/>
              </a:rPr>
              <a:t>Ukončení projektu: </a:t>
            </a:r>
            <a:r>
              <a:rPr b="0" lang="cs-CZ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Lucida Sans Unicode"/>
              </a:rPr>
              <a:t>do 30. 6. 2015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1" name="Nadpis 2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2" name=""/>
          <p:cNvGraphicFramePr/>
          <p:nvPr/>
        </p:nvGraphicFramePr>
        <p:xfrm>
          <a:off x="214200" y="1428840"/>
          <a:ext cx="8429760" cy="4572000"/>
        </p:xfrm>
        <a:graphic>
          <a:graphicData uri="http://schemas.openxmlformats.org/drawingml/2006/table">
            <a:tbl>
              <a:tblPr/>
              <a:tblGrid>
                <a:gridCol w="4756320"/>
                <a:gridCol w="1836720"/>
                <a:gridCol w="1836720"/>
              </a:tblGrid>
              <a:tr h="1136520">
                <a:tc>
                  <a:txBody>
                    <a:bodyPr lIns="36360" rIns="0" tIns="0" bIns="0" anchor="ctr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1199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17640" bIns="17640" anchor="b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čet pracovních dnů od ukončení předchozí čin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7640" tIns="17640" bIns="17640" anchor="b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čet pracovních dnů od ukončení výzv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36360" rIns="0" tIns="0" bIns="0" anchor="ctr">
                      <a:noAutofit/>
                    </a:bodyPr>
                    <a:p>
                      <a:pPr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končení výzv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7640" rIns="17640" tIns="17640" bIns="1764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ačátek procesu (14.5.20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1840">
                <a:tc>
                  <a:txBody>
                    <a:bodyPr lIns="36360" rIns="0" tIns="0" bIns="0" anchor="ctr">
                      <a:noAutofit/>
                    </a:bodyPr>
                    <a:p>
                      <a:pPr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volání výběrové komi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17640" bIns="1764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36360" bIns="3636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36360" rIns="0" tIns="0" bIns="0" anchor="ctr">
                      <a:noAutofit/>
                    </a:bodyPr>
                    <a:p>
                      <a:pPr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ledek výběrové komi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17640" bIns="1764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36360" bIns="3636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36360" rIns="0" tIns="0" bIns="0" anchor="ctr">
                      <a:noAutofit/>
                    </a:bodyPr>
                    <a:p>
                      <a:pPr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hválení Řídícím výbor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17640" bIns="1764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36360" bIns="3636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36360" rIns="0" tIns="0" bIns="0" anchor="ctr">
                      <a:noAutofit/>
                    </a:bodyPr>
                    <a:p>
                      <a:pPr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jednání Radou mě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17640" bIns="1764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36360" bIns="3636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36360" rIns="0" tIns="0" bIns="0" anchor="ctr">
                      <a:noAutofit/>
                    </a:bodyPr>
                    <a:p>
                      <a:pPr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známení výsledku žadatelům a vrácení žádost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17640" bIns="1764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36360" bIns="3636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36360" rIns="36360" tIns="36360" bIns="36360" anchor="ctr">
                      <a:noAutofit/>
                    </a:bodyPr>
                    <a:p>
                      <a:pPr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kytování informací žadatelů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7640" rIns="17640" tIns="17640" bIns="1764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ůběžn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403" name="Nadpis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Výběrová kritéria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Příloha č. 3 výzvy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Výzva č. 3 pro aktivitu 5.2. b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Lucida Sans Unicode"/>
                <a:ea typeface="Times New Roman"/>
              </a:rPr>
              <a:t>IPRM pro zónu Březohorského sídliště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603720" indent="-49896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0000"/>
                </a:solidFill>
                <a:latin typeface="Lucida Sans Unicode"/>
              </a:rPr>
              <a:t>Hodnocení schopností a zkušeností žadatele </a:t>
            </a:r>
            <a:r>
              <a:rPr b="1" lang="cs-CZ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cs-CZ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cs-CZ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cs-CZ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cs-CZ" sz="2700" spc="-1" strike="noStrike">
                <a:solidFill>
                  <a:srgbClr val="ff0000"/>
                </a:solidFill>
                <a:latin typeface="Lucida Sans Unicode"/>
              </a:rPr>
              <a:t>– max 10 bodů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3720" indent="-49896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3720" indent="-49896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0000"/>
                </a:solidFill>
                <a:latin typeface="Lucida Sans Unicode"/>
              </a:rPr>
              <a:t>Potřeba, relevance projektu  </a:t>
            </a:r>
            <a:r>
              <a:rPr b="1" lang="cs-CZ" sz="2700" spc="-1" strike="noStrike">
                <a:solidFill>
                  <a:srgbClr val="ff0000"/>
                </a:solidFill>
                <a:latin typeface="Lucida Sans Unicode"/>
              </a:rPr>
              <a:t>- max 40 bodů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3720" indent="-49896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3720" indent="-49896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0000"/>
                </a:solidFill>
                <a:latin typeface="Lucida Sans Unicode"/>
              </a:rPr>
              <a:t>Kvalita projektu </a:t>
            </a:r>
            <a:r>
              <a:rPr b="1" lang="cs-CZ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cs-CZ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cs-CZ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cs-CZ" sz="2700" spc="-1" strike="noStrike">
                <a:solidFill>
                  <a:srgbClr val="000000"/>
                </a:solidFill>
                <a:latin typeface="Lucida Sans Unicode"/>
              </a:rPr>
              <a:t>– </a:t>
            </a:r>
            <a:r>
              <a:rPr b="1" lang="cs-CZ" sz="2700" spc="-1" strike="noStrike">
                <a:solidFill>
                  <a:srgbClr val="ff0000"/>
                </a:solidFill>
                <a:latin typeface="Lucida Sans Unicode"/>
              </a:rPr>
              <a:t>max 40 bodů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3720" indent="-49896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3720" indent="-49896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0000"/>
                </a:solidFill>
                <a:latin typeface="Lucida Sans Unicode"/>
              </a:rPr>
              <a:t>Horizontální kritéria  </a:t>
            </a:r>
            <a:r>
              <a:rPr b="1" lang="cs-CZ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cs-CZ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cs-CZ" sz="2700" spc="-1" strike="noStrike">
                <a:solidFill>
                  <a:srgbClr val="ff0000"/>
                </a:solidFill>
                <a:latin typeface="Lucida Sans Unicode"/>
              </a:rPr>
              <a:t>- max 10 bodů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3720" indent="-49896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3720" indent="-498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ff0000"/>
                </a:solidFill>
                <a:latin typeface="Lucida Sans Unicode"/>
              </a:rPr>
              <a:t>	</a:t>
            </a:r>
            <a:r>
              <a:rPr b="1" lang="cs-CZ" sz="2700" spc="-1" strike="noStrike">
                <a:solidFill>
                  <a:srgbClr val="ff0000"/>
                </a:solidFill>
                <a:latin typeface="Lucida Sans Unicode"/>
              </a:rPr>
              <a:t>CELKEM </a:t>
            </a:r>
            <a:r>
              <a:rPr b="1" lang="cs-CZ" sz="2700" spc="-1" strike="noStrike">
                <a:solidFill>
                  <a:srgbClr val="ff0000"/>
                </a:solidFill>
                <a:latin typeface="Lucida Sans Unicode"/>
              </a:rPr>
              <a:t>	</a:t>
            </a:r>
            <a:r>
              <a:rPr b="1" lang="cs-CZ" sz="2700" spc="-1" strike="noStrike">
                <a:solidFill>
                  <a:srgbClr val="ff0000"/>
                </a:solidFill>
                <a:latin typeface="Lucida Sans Unicode"/>
              </a:rPr>
              <a:t>	</a:t>
            </a:r>
            <a:r>
              <a:rPr b="1" lang="cs-CZ" sz="2700" spc="-1" strike="noStrike">
                <a:solidFill>
                  <a:srgbClr val="ff0000"/>
                </a:solidFill>
                <a:latin typeface="Lucida Sans Unicode"/>
              </a:rPr>
              <a:t>	</a:t>
            </a:r>
            <a:r>
              <a:rPr b="1" lang="cs-CZ" sz="2700" spc="-1" strike="noStrike">
                <a:solidFill>
                  <a:srgbClr val="ff0000"/>
                </a:solidFill>
                <a:latin typeface="Lucida Sans Unicode"/>
              </a:rPr>
              <a:t>	</a:t>
            </a:r>
            <a:r>
              <a:rPr b="1" lang="cs-CZ" sz="2700" spc="-1" strike="noStrike">
                <a:solidFill>
                  <a:srgbClr val="ff0000"/>
                </a:solidFill>
                <a:latin typeface="Lucida Sans Unicode"/>
              </a:rPr>
              <a:t>MAX 100 bodů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3720" indent="-49896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7" name="Nadpis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Přílohy předkládané městu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Příloha č. 2 výzvy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Výzva č. 3 pro aktivitu 5.2. b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Lucida Sans Unicode"/>
                <a:ea typeface="Times New Roman"/>
              </a:rPr>
              <a:t>IPRM pro zónu Březohorského sídliště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Podrobný rozpočet projektu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Lucida Sans Unicode"/>
              </a:rPr>
              <a:t>podrobný rozpočet projektu zahrnující způsobilé i nezpůsobilé výdaje, případně výdaje, které jsou způsobilé ale žadatel nepožaduje jejich proplacení (dle  vzoru uvedeného v příloz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1" name="Nadpis 2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6868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14" name="Picture 2" descr=""/>
          <p:cNvPicPr/>
          <p:nvPr/>
        </p:nvPicPr>
        <p:blipFill>
          <a:blip r:embed="rId2"/>
          <a:stretch/>
        </p:blipFill>
        <p:spPr>
          <a:xfrm>
            <a:off x="1571760" y="0"/>
            <a:ext cx="6786360" cy="67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Lucida Sans Unicode"/>
              </a:rPr>
              <a:t>Potvrzení zpracovatele Průkazu energetické náročnosti budovy (dále jen „Průkaz“) o výši uspořené energi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Lucida Sans Unicode"/>
              </a:rPr>
              <a:t>pouze v případě, že žadatel bude provádět zateplení domu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Lucida Sans Unicode"/>
              </a:rPr>
              <a:t>Žadatel není povinen realizovat veškerá opatření, navržená v Průkazu energetické náročnosti budovy. Potvrzení bude obsahovat ta opatření, která bude žadatel realizovat a zpracovatel Průkazu v Potvrzení uvede úsporu energie, které bude dosaženo po realizaci uvedených opatření. Pokud žadatel provede některé opatření pouze částečně (např. plánuje vyměnit okna v bytovém domě, ale u 2 bytů nebude výměna realizována např. z důvodu, že majitelé bytů nemají o výměnu oken zájem nebo nemohou investovat finanční prostředky na dofinancování), je nutné takové částečné opatření zohlednit a v tomto Potvrzení uvést skutečnou výši uspořené energie. (dle vzoru uvedeného v příloze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6" name="Nadpis 2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6868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19" name="Picture 2" descr=""/>
          <p:cNvPicPr/>
          <p:nvPr/>
        </p:nvPicPr>
        <p:blipFill>
          <a:blip r:embed="rId2"/>
          <a:stretch/>
        </p:blipFill>
        <p:spPr>
          <a:xfrm>
            <a:off x="2428920" y="0"/>
            <a:ext cx="4929120" cy="6775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7200" y="1285560"/>
            <a:ext cx="822960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5200" indent="-4572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Lucida Sans Unicode"/>
              </a:rPr>
              <a:t>Úvod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65200" indent="-4572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Lucida Sans Unicode"/>
              </a:rPr>
              <a:t>Výzva č. 3 – oblast 5.2.b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65200" indent="-4572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Lucida Sans Unicode"/>
              </a:rPr>
              <a:t>Výběrová kritéria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65200" indent="-4572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Lucida Sans Unicode"/>
              </a:rPr>
              <a:t>Přílohy předkládané městu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65200" indent="-4572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Lucida Sans Unicode"/>
              </a:rPr>
              <a:t>Elektronická žádost Benefit7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65200" indent="-4572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Lucida Sans Unicode"/>
              </a:rPr>
              <a:t>Diskus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65200" indent="-4572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Lucida Sans Unicode"/>
              </a:rPr>
              <a:t>Shrnutí, závěr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Obdélník 4"/>
          <p:cNvSpPr/>
          <p:nvPr/>
        </p:nvSpPr>
        <p:spPr>
          <a:xfrm>
            <a:off x="3500280" y="6286680"/>
            <a:ext cx="53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Lucida Sans Unicode"/>
              </a:rPr>
              <a:t>IPRM PRO ZÓNU BŘEZOHORSKÉHO SÍDLIŠT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Nadpis 4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Vyčíslení naplňování indikátorů IPR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Lucida Sans Unicode"/>
              </a:rPr>
              <a:t>přepočet naplnění indikátoru „počet regenerovaných bytů“ vzhledem k výši požadované dotace (dle vzoru uvedeného v příloz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1" name="Nadpis 2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6868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2" name=""/>
          <p:cNvGraphicFramePr/>
          <p:nvPr/>
        </p:nvGraphicFramePr>
        <p:xfrm>
          <a:off x="928800" y="214200"/>
          <a:ext cx="8001000" cy="5857920"/>
        </p:xfrm>
        <a:graphic>
          <a:graphicData uri="http://schemas.openxmlformats.org/drawingml/2006/table">
            <a:tbl>
              <a:tblPr/>
              <a:tblGrid>
                <a:gridCol w="6773760"/>
                <a:gridCol w="1227240"/>
              </a:tblGrid>
              <a:tr h="965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číslení naplňování indikátorů IPRM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8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zev projektu: …………………………………………………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8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Informace o výdajích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1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kové výdaje projektu dle rozpočtu v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ková požadovaná dotace v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 Informaci o bytovém dom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1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bytových jednotek, kterých se týkají realizovaná opatře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 Výpo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6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žadovaná dotace v Kč/ počet b.j., kterých se realizace projektu týk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DIV/0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358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stor pro poznám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333360">
                <a:tc gridSpan="2"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ní nutné vyplňov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Doklad o partnerství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Lucida Sans Unicode"/>
              </a:rPr>
              <a:t>Tento doklad žadatel předkládá, jsou-li do projektu zahrnuti partneři. Dokladem o partnerství je smlouva nebo písemná dohoda s partnery vymezující jejich úlohu, práva a povinnosti při přípravě, realizaci a udržitelnosti projektu. Není-li partner, vyznačí se v žádosti jako Nedoloženo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5" name="Nadpis 2" descr=""/>
          <p:cNvPicPr/>
          <p:nvPr/>
        </p:nvPicPr>
        <p:blipFill>
          <a:blip r:embed="rId1"/>
          <a:stretch/>
        </p:blipFill>
        <p:spPr>
          <a:xfrm>
            <a:off x="268200" y="268200"/>
            <a:ext cx="84250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Referenční projekt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Lucida Sans Unicode"/>
              </a:rPr>
              <a:t>doložení v případě zájmu o bodové zvýhodnění v rámci kritéria Zkušenosti s řízením projektů (dle vzoru v příloze)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7" name="Nadpis 2" descr=""/>
          <p:cNvPicPr/>
          <p:nvPr/>
        </p:nvPicPr>
        <p:blipFill>
          <a:blip r:embed="rId1"/>
          <a:stretch/>
        </p:blipFill>
        <p:spPr>
          <a:xfrm>
            <a:off x="268200" y="268200"/>
            <a:ext cx="84250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8" name=""/>
          <p:cNvGraphicFramePr/>
          <p:nvPr/>
        </p:nvGraphicFramePr>
        <p:xfrm>
          <a:off x="457200" y="1725480"/>
          <a:ext cx="8229600" cy="4038840"/>
        </p:xfrm>
        <a:graphic>
          <a:graphicData uri="http://schemas.openxmlformats.org/drawingml/2006/table">
            <a:tbl>
              <a:tblPr/>
              <a:tblGrid>
                <a:gridCol w="976320"/>
                <a:gridCol w="906480"/>
                <a:gridCol w="825480"/>
                <a:gridCol w="878040"/>
                <a:gridCol w="922320"/>
                <a:gridCol w="1025280"/>
                <a:gridCol w="2695680"/>
              </a:tblGrid>
              <a:tr h="489240">
                <a:tc>
                  <a:txBody>
                    <a:bodyPr lIns="39960" rIns="3996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ference č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9960" rIns="39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ázev projektu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gridSpan="4">
                  <a:txBody>
                    <a:bodyPr lIns="39960" rIns="399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960" marR="399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0240">
                <a:tc>
                  <a:txBody>
                    <a:bodyPr lIns="39960" rIns="3996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méno žadatele/ předkladatele/ realizátora projektu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elková hodnota projekt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v Kč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Část projektu realizovaná přímo žadatelem 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likost projektového týmu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počet osob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um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začátek/ konec projektu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droj financován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ntakt na poskytovatele finančních prostředků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název instituce, kontaktní osoba, telefon, emai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12800">
                <a:tc>
                  <a:txBody>
                    <a:bodyPr lIns="39960" rIns="39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960" marR="399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 gridSpan="5">
                  <a:txBody>
                    <a:bodyPr lIns="39960" rIns="3996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pis projektu a jeho výstupů (heslovitě - max. 700 znaků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9960" rIns="3996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ména partnerů zapojených do projektu a určení způsobu spoluprá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02000">
                <a:tc gridSpan="5">
                  <a:txBody>
                    <a:bodyPr lIns="39960" rIns="39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9960" rIns="39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Analýza výchozí situac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Lucida Sans Unicode"/>
              </a:rPr>
              <a:t>doložení v případě nedostatečného prostoru v rámci žádosti Benefit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1" name="Nadpis 2" descr=""/>
          <p:cNvPicPr/>
          <p:nvPr/>
        </p:nvPicPr>
        <p:blipFill>
          <a:blip r:embed="rId1"/>
          <a:stretch/>
        </p:blipFill>
        <p:spPr>
          <a:xfrm>
            <a:off x="268200" y="268200"/>
            <a:ext cx="84250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Finanční udržitelnost projektu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Lucida Sans Unicode"/>
              </a:rPr>
              <a:t>vyčíslení a podložení ročních nákladů na údržbu a zajištění finančního krytí těchto nákladů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3" name="Nadpis 2" descr=""/>
          <p:cNvPicPr/>
          <p:nvPr/>
        </p:nvPicPr>
        <p:blipFill>
          <a:blip r:embed="rId1"/>
          <a:stretch/>
        </p:blipFill>
        <p:spPr>
          <a:xfrm>
            <a:off x="268200" y="268200"/>
            <a:ext cx="84250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Lucida Sans Unicode"/>
              </a:rPr>
              <a:t>K tištěné žádosti mohou být přiloženy i </a:t>
            </a:r>
            <a:r>
              <a:rPr b="1" lang="cs-CZ" sz="2700" spc="-1" strike="noStrike">
                <a:solidFill>
                  <a:srgbClr val="000000"/>
                </a:solidFill>
                <a:latin typeface="Lucida Sans Unicode"/>
              </a:rPr>
              <a:t>další nepovinné p</a:t>
            </a:r>
            <a:r>
              <a:rPr b="0" lang="cs-CZ" sz="2700" spc="-1" strike="noStrike">
                <a:solidFill>
                  <a:srgbClr val="000000"/>
                </a:solidFill>
                <a:latin typeface="Lucida Sans Unicode"/>
              </a:rPr>
              <a:t>ř</a:t>
            </a:r>
            <a:r>
              <a:rPr b="1" lang="cs-CZ" sz="2700" spc="-1" strike="noStrike">
                <a:solidFill>
                  <a:srgbClr val="000000"/>
                </a:solidFill>
                <a:latin typeface="Lucida Sans Unicode"/>
              </a:rPr>
              <a:t>ílohy</a:t>
            </a:r>
            <a:r>
              <a:rPr b="0" lang="cs-CZ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5" name="Nadpis 2" descr=""/>
          <p:cNvPicPr/>
          <p:nvPr/>
        </p:nvPicPr>
        <p:blipFill>
          <a:blip r:embed="rId1"/>
          <a:stretch/>
        </p:blipFill>
        <p:spPr>
          <a:xfrm>
            <a:off x="268200" y="268200"/>
            <a:ext cx="84250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Elektronická žádost Benefit7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Výzva č. 3 pro aktivitu 5.2. b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Lucida Sans Unicode"/>
                <a:ea typeface="Times New Roman"/>
              </a:rPr>
              <a:t>IPRM pro zónu Březohorského sídliště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 u="sng">
                <a:solidFill>
                  <a:srgbClr val="ff0000"/>
                </a:solidFill>
                <a:uFillTx/>
                <a:latin typeface="Lucida Sans Unicode"/>
              </a:rPr>
              <a:t>Centrum pro regionální rozvoj ČR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0" lang="cs-CZ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r>
              <a:rPr b="1" lang="cs-CZ" sz="2700" spc="-1" strike="noStrike">
                <a:solidFill>
                  <a:srgbClr val="000000"/>
                </a:solidFill>
                <a:latin typeface="Lucida Sans Unicode"/>
              </a:rPr>
              <a:t>Regionální kancelář CRR Střední Čechy, </a:t>
            </a:r>
            <a:r>
              <a:rPr b="0" lang="cs-CZ" sz="2700" spc="-1" strike="noStrike">
                <a:solidFill>
                  <a:srgbClr val="000000"/>
                </a:solidFill>
                <a:latin typeface="Lucida Sans Unicode"/>
              </a:rPr>
              <a:t>Náměstí míru 9, 120 53 Praha 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0000"/>
                </a:solidFill>
                <a:latin typeface="Lucida Sans Unicode"/>
              </a:rPr>
              <a:t>Ing. Jan Klofáč </a:t>
            </a:r>
            <a:br>
              <a:rPr sz="2700"/>
            </a:br>
            <a:r>
              <a:rPr b="0" lang="cs-CZ" sz="2700" spc="-1" strike="noStrike">
                <a:solidFill>
                  <a:srgbClr val="000000"/>
                </a:solidFill>
                <a:latin typeface="Lucida Sans Unicode"/>
              </a:rPr>
              <a:t> vedoucí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r>
              <a:rPr b="0" lang="cs-CZ" sz="2700" spc="-1" strike="noStrike">
                <a:solidFill>
                  <a:srgbClr val="000000"/>
                </a:solidFill>
                <a:latin typeface="Lucida Sans Unicode"/>
              </a:rPr>
              <a:t>tel: 221 596 555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r>
              <a:rPr b="0" lang="cs-CZ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klofac@crr.cz</a:t>
            </a:r>
            <a:r>
              <a:rPr b="0" lang="cs-CZ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9" name="Nadpis 2" descr=""/>
          <p:cNvPicPr/>
          <p:nvPr/>
        </p:nvPicPr>
        <p:blipFill>
          <a:blip r:embed="rId2"/>
          <a:stretch/>
        </p:blipFill>
        <p:spPr>
          <a:xfrm>
            <a:off x="225360" y="268200"/>
            <a:ext cx="8467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229600" cy="53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4" descr="Březohorské sídliště_zóny"/>
          <p:cNvPicPr/>
          <p:nvPr/>
        </p:nvPicPr>
        <p:blipFill>
          <a:blip r:embed="rId1"/>
          <a:stretch/>
        </p:blipFill>
        <p:spPr>
          <a:xfrm>
            <a:off x="0" y="0"/>
            <a:ext cx="915192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b4a76"/>
                </a:solidFill>
                <a:latin typeface="Arial"/>
                <a:ea typeface="Arial"/>
              </a:rPr>
              <a:t>Kancelář ekonomického a finančního poradenství</a:t>
            </a:r>
            <a:br>
              <a:rPr sz="2800"/>
            </a:br>
            <a:r>
              <a:rPr b="0" lang="en-GB" sz="2400" spc="-1" strike="noStrike">
                <a:solidFill>
                  <a:srgbClr val="2b4a76"/>
                </a:solidFill>
                <a:latin typeface="Arial"/>
                <a:ea typeface="Arial"/>
              </a:rPr>
              <a:t>Zavadilka 2584, 370 05  České Budějovice</a:t>
            </a:r>
            <a:br>
              <a:rPr sz="2400"/>
            </a:br>
            <a:r>
              <a:rPr b="0" lang="en-GB" sz="2400" spc="-1" strike="noStrike">
                <a:solidFill>
                  <a:srgbClr val="2b4a76"/>
                </a:solidFill>
                <a:latin typeface="Arial"/>
                <a:ea typeface="Arial"/>
              </a:rPr>
              <a:t>tel./fax: +420 387 426 578; tel.: 387 310 210-2</a:t>
            </a:r>
            <a:br>
              <a:rPr sz="2400"/>
            </a:br>
            <a:r>
              <a:rPr b="0" lang="en-GB" sz="2400" spc="-1" strike="noStrike">
                <a:solidFill>
                  <a:srgbClr val="2b4a76"/>
                </a:solidFill>
                <a:latin typeface="Arial"/>
                <a:ea typeface="Arial"/>
              </a:rPr>
              <a:t>http://www.financecb.cz</a:t>
            </a:r>
            <a:br>
              <a:rPr sz="2400"/>
            </a:br>
            <a:r>
              <a:rPr b="0" lang="en-GB" sz="2400" spc="-1" strike="noStrike">
                <a:solidFill>
                  <a:srgbClr val="2b4a76"/>
                </a:solidFill>
                <a:latin typeface="Arial"/>
                <a:ea typeface="Arial"/>
              </a:rPr>
              <a:t>e-mail: kancelar@financecb.cz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1" name="Nadpis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42" name="Rectangle 5121" descr=""/>
          <p:cNvPicPr/>
          <p:nvPr/>
        </p:nvPicPr>
        <p:blipFill>
          <a:blip r:embed="rId2"/>
          <a:stretch/>
        </p:blipFill>
        <p:spPr>
          <a:xfrm>
            <a:off x="1800360" y="2000160"/>
            <a:ext cx="5400720" cy="13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86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7953480" cy="6172200"/>
          </a:xfrm>
          <a:prstGeom prst="rect">
            <a:avLst/>
          </a:prstGeom>
          <a:ln w="0">
            <a:noFill/>
          </a:ln>
        </p:spPr>
      </p:pic>
      <p:sp>
        <p:nvSpPr>
          <p:cNvPr id="387" name="TextovéPole 4"/>
          <p:cNvSpPr/>
          <p:nvPr/>
        </p:nvSpPr>
        <p:spPr>
          <a:xfrm>
            <a:off x="5572080" y="5357880"/>
            <a:ext cx="335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Vydání 02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platnost od 7. srpna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Lucida Sans Unicode"/>
              </a:rPr>
              <a:t>základní informace o IOP,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Lucida Sans Unicode"/>
              </a:rPr>
              <a:t>instrukce pro podání projektové žádosti,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Lucida Sans Unicode"/>
              </a:rPr>
              <a:t>postup následující po podání projektové žádosti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Lucida Sans Unicode"/>
              </a:rPr>
              <a:t>informace vztahující se k realizaci a udržitelnosti projektu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Lucida Sans Unicode"/>
              </a:rPr>
              <a:t>příloh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Nadpis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Lucida Sans Unicode"/>
              </a:rPr>
              <a:t>v souladu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Lucida Sans Unicode"/>
              </a:rPr>
              <a:t>s Příručkou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Lucida Sans Unicode"/>
              </a:rPr>
              <a:t>výzvou pro podávání žádostí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Lucida Sans Unicode"/>
              </a:rPr>
              <a:t>Příručka může být v průběhu realizace IOP aktualizována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Lucida Sans Unicode"/>
              </a:rPr>
              <a:t>informace na internetových stránkách </a:t>
            </a:r>
            <a:r>
              <a:rPr b="0" lang="cs-CZ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://www.strukturalni-fondy.cz/iop/5-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Nadpis 2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2" name=""/>
          <p:cNvGraphicFramePr/>
          <p:nvPr/>
        </p:nvGraphicFramePr>
        <p:xfrm>
          <a:off x="500040" y="1714680"/>
          <a:ext cx="8215200" cy="3357360"/>
        </p:xfrm>
        <a:graphic>
          <a:graphicData uri="http://schemas.openxmlformats.org/drawingml/2006/table">
            <a:tbl>
              <a:tblPr/>
              <a:tblGrid>
                <a:gridCol w="2525760"/>
                <a:gridCol w="1042920"/>
                <a:gridCol w="976320"/>
                <a:gridCol w="1227240"/>
                <a:gridCol w="1263600"/>
                <a:gridCol w="1179360"/>
              </a:tblGrid>
              <a:tr h="161892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400"/>
                      </a:br>
                      <a:br>
                        <a:rPr sz="2400"/>
                      </a:b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tegorie příjem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RDF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v 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R (v 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tace ERDF + SR (v 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droje příjemce      (v 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lkem       (v 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796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lé podniky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řední podniky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lké podniky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93" name="Nadpis 2" descr=""/>
          <p:cNvPicPr/>
          <p:nvPr/>
        </p:nvPicPr>
        <p:blipFill>
          <a:blip r:embed="rId1"/>
          <a:stretch/>
        </p:blipFill>
        <p:spPr>
          <a:xfrm>
            <a:off x="268200" y="219240"/>
            <a:ext cx="8425080" cy="12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f0000"/>
                </a:solidFill>
                <a:uFillTx/>
                <a:latin typeface="Lucida Sans Unicode"/>
              </a:rPr>
              <a:t>Počáteční datum </a:t>
            </a:r>
            <a:r>
              <a:rPr b="0" lang="cs-CZ" sz="2400" spc="-1" strike="noStrike">
                <a:solidFill>
                  <a:srgbClr val="000000"/>
                </a:solidFill>
                <a:latin typeface="Lucida Sans Unicode"/>
              </a:rPr>
              <a:t>způsobilosti výdajů je den uvedený na potvrzení o způsobilosti projektu, které CRR zašle žadateli po posouzení přijatelnosti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f0000"/>
                </a:solidFill>
                <a:uFillTx/>
                <a:latin typeface="Lucida Sans Unicode"/>
              </a:rPr>
              <a:t>POZOR!!!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Lucida Sans Unicode"/>
              </a:rPr>
              <a:t>Před datem vydání potvrzení nesmí být zahájeny stavební práce nebo dán závazný příslib objednávky zařízení, nesmí být rozhodnuto o přidělení veřejné zakázky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Nadpis 2" descr=""/>
          <p:cNvPicPr/>
          <p:nvPr/>
        </p:nvPicPr>
        <p:blipFill>
          <a:blip r:embed="rId1"/>
          <a:stretch/>
        </p:blipFill>
        <p:spPr>
          <a:xfrm>
            <a:off x="268200" y="219240"/>
            <a:ext cx="8425080" cy="12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Lucida Sans Unicode"/>
              </a:rPr>
              <a:t>Způsobilé jsou </a:t>
            </a:r>
            <a:r>
              <a:rPr b="1" lang="cs-CZ" sz="2400" spc="-1" strike="noStrike" u="sng">
                <a:solidFill>
                  <a:srgbClr val="ff0000"/>
                </a:solidFill>
                <a:uFillTx/>
                <a:latin typeface="Lucida Sans Unicode"/>
              </a:rPr>
              <a:t>pouze investiční výdaje</a:t>
            </a:r>
            <a:r>
              <a:rPr b="1" lang="cs-CZ" sz="2400" spc="-1" strike="noStrike">
                <a:solidFill>
                  <a:srgbClr val="000000"/>
                </a:solidFill>
                <a:latin typeface="Lucida Sans Unicode"/>
              </a:rPr>
              <a:t>, tzn. příjemce účtuje </a:t>
            </a:r>
            <a:r>
              <a:rPr b="0" lang="cs-CZ" sz="2400" spc="-1" strike="noStrike">
                <a:solidFill>
                  <a:srgbClr val="000000"/>
                </a:solidFill>
                <a:latin typeface="Lucida Sans Unicode"/>
              </a:rPr>
              <a:t>při dodržení zákona č. 563/1991 Sb., o účetnictví, ve znění pozdějších předpisů, zákona č. 586/1992 Sb., o daních z příjmů, ve znění pozdějších předpisů, případně svých interních směrnic,</a:t>
            </a:r>
            <a:r>
              <a:rPr b="1" lang="cs-CZ" sz="2400" spc="-1" strike="noStrike">
                <a:solidFill>
                  <a:srgbClr val="000000"/>
                </a:solidFill>
                <a:latin typeface="Lucida Sans Unicode"/>
              </a:rPr>
              <a:t> výdaje projektu jako pořízení investic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f0000"/>
                </a:solidFill>
                <a:uFillTx/>
                <a:latin typeface="Lucida Sans Unicode"/>
              </a:rPr>
              <a:t>Datum ukončení způsobilosti </a:t>
            </a:r>
            <a:r>
              <a:rPr b="0" lang="cs-CZ" sz="2400" spc="-1" strike="noStrike">
                <a:solidFill>
                  <a:srgbClr val="000000"/>
                </a:solidFill>
                <a:latin typeface="Lucida Sans Unicode"/>
              </a:rPr>
              <a:t>výdajů je dáno datem ukončení konkrétního projektu. Realizace všech projektů musí být ukončena do </a:t>
            </a:r>
            <a:r>
              <a:rPr b="1" lang="cs-CZ" sz="2400" spc="-1" strike="noStrike">
                <a:solidFill>
                  <a:srgbClr val="000000"/>
                </a:solidFill>
                <a:latin typeface="Lucida Sans Unicode"/>
              </a:rPr>
              <a:t>30. 6. 2015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Nadpis 2" descr=""/>
          <p:cNvPicPr/>
          <p:nvPr/>
        </p:nvPicPr>
        <p:blipFill>
          <a:blip r:embed="rId1"/>
          <a:stretch/>
        </p:blipFill>
        <p:spPr>
          <a:xfrm>
            <a:off x="268200" y="219240"/>
            <a:ext cx="8425080" cy="12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6:50:09Z</dcterms:created>
  <dc:creator>Jaromír Polášek</dc:creator>
  <dc:description/>
  <dc:language>en-US</dc:language>
  <cp:lastModifiedBy>Jaromír Polášek</cp:lastModifiedBy>
  <dcterms:modified xsi:type="dcterms:W3CDTF">2010-02-25T13:50:20Z</dcterms:modified>
  <cp:revision>240</cp:revision>
  <dc:subject/>
  <dc:title>Jednání řídícího týmu projektu IPRM</dc:title>
</cp:coreProperties>
</file>